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867D-1164-42B9-ADF6-3CEAEB65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648-1F91-4755-A6ED-C73B2E68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A9F-D839-455C-93C6-5F6DB1FA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0AED-C3D7-4D98-BA79-1BCF6878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A322-8EB6-41C5-A3FA-2D680F08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2CC3-79C2-4029-963D-2B5F18A9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9607-C02F-4EA9-B2D1-E2919E75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734-9BB0-485D-B7D4-DED45A9C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0D58-A01C-4FA9-A148-B654E648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19C-96FC-4991-A582-4E5C5BB5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B2B2-DC81-426B-BF1B-9DB3ACDB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938-5DC7-4EED-B04F-50D4BAA8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536A-F9D6-4F37-A508-D8E986E10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cPhonicsOne"/>
              </a:rPr>
              <a:t>Ozone Deple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00"/>
                </a:solidFill>
                <a:latin typeface="Book Antiqua"/>
              </a:rPr>
              <a:t>Samantha Zril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00"/>
                </a:solidFill>
                <a:latin typeface="Book Antiqua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00"/>
                </a:solidFill>
                <a:latin typeface="Book Antiqua"/>
              </a:rPr>
              <a:t>Tiffany Cull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bcPhonicsOne"/>
              </a:rPr>
              <a:t>The end</a:t>
            </a:r>
            <a:r>
              <a:rPr b="1" lang="en-US" sz="96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We hope you enjoyed             this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cPhonicsOne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e Encyclopedia of U.S. Economic History. Ed. Thomas Carson and Mary Bonk. Detroit: Gale Group, 199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e Encyclopedia of Science. Ed. K. Lee Lerner and Brenda Wilmoth Lerner. 4th ed. Detroit: Gale Group, 200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moth Lerner. 4th ed. Detroit: Gale Group, 2008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udent Resource Center - Go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Gale. Stroudsburg High School. 23 Feb.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2193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06668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What is ozone deple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Chemicals in the air that are making holes in the o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Two distinct, but related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a slow, steady decline in the total volume of ozone in earth’s strat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Both B an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What is the ozone lay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Earth's atmosphere which contains very high concentrations of o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(O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Sun’s high ultraviolet light, which is potentially damaging to life on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A and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A an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 All of th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5238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What is depleting the ozone lay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All of the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Hair sp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.Febree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Fa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Tanning b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 B and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 A, B, an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What’s a CF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Chlorofluorocarb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Chlo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Fluo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A and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 All of th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and short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295280"/>
            <a:ext cx="815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Are CFCs stable chemicals or unst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U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ain the CFC problem in order from 1 to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bcPhonicsOne"/>
              </a:rPr>
              <a:t>So what is the ozone layer anyw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zone is present in the stratosphere.  The stratosphere is 30 miles above the Earth, and at the very top it contains ozone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uns rays are absorbed by the ozone in the stratosphere and therefore do not reach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helps prevent the breakage of Deoxyibonucleic acid,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’s a bluish gas that has an acid odor. However, it is colorless and extremely poisonous.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162920" y="5388120"/>
            <a:ext cx="1981080" cy="1469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bcPhonicsOne"/>
              </a:rPr>
              <a:t>What does it do for 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t prevents us from absorbing an excessive amount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Decreased ozone layer will increase rates of malaria and other diseases so it prevents a lot of the population from getting that and catara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Every time 1% of the ozone layer is depleted, 2% more UV-B is able to reach the surface of the plane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o it prevents us from getting… SUNBURN! Which can turn into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skin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772400" y="1600200"/>
            <a:ext cx="87012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5388120"/>
            <a:ext cx="198108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bcPhonicsOne"/>
              </a:rPr>
              <a:t>How was/ is it being deple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he depletion is caused by reactions to chemicals in the air from factories, hairspray, and pollution from vehicl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hese chemicals are commonly known as CFC’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FC’s are compounds that contain atoms of carbon, chlorine, and fluorin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hey are a type of stable chem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0" y="44956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bcPhonicsOne"/>
              </a:rPr>
              <a:t>What is causing the deple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he chemicals that harm the ozone take a very long time to get to the ozone layer. CFCs would remain in the stratosphere for another 100 years even if none were ever produced ag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herefore, those chemicals from years ago are still contributing to ozone depletion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Rapid climate change is causing the ozone layer to heal slower then ever before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bcPhonicsOne"/>
              </a:rPr>
              <a:t>Are we trying to slow the deple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No, because even though most people know about the problem, they don’t know how much of a problem it really is, so they basically ignor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bcPhonicsOne"/>
              </a:rPr>
              <a:t>How can we solve this problem???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STOP USING CFC’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4:06:29Z</dcterms:created>
  <dc:creator>sasd</dc:creator>
  <dc:description/>
  <dc:language>en-US</dc:language>
  <cp:lastModifiedBy> </cp:lastModifiedBy>
  <dcterms:modified xsi:type="dcterms:W3CDTF">2009-03-06T03:28:39Z</dcterms:modified>
  <cp:revision>24</cp:revision>
  <dc:subject/>
  <dc:title>Ozone Depletion</dc:title>
</cp:coreProperties>
</file>